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8D5-5A46-4B8F-BD16-1FA7CF54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8B0-1FE9-4266-86BF-9B4CC06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40E-C3D5-474E-868A-2690357B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1D5-1F6E-4BD4-B845-A8487F0F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D1F-03FE-4389-BB4F-E0317E3B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FE7-4A8F-440C-9102-F2531DC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2FA-2F01-4CEF-8F73-912391E3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63E-CDE7-454A-A0D4-9FE28026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131F-FE2D-46FB-9CDF-1B41A99B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85BB-4905-4460-9A5B-98FE59B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AA90-1BE1-467D-B644-07BBD14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449-FF0C-4690-9F88-942EC2DA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716-21AC-4E59-9D7D-F96B077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B0F6-51C1-44E0-8A56-7EA91F9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FD6-091E-42B1-8B98-79B1B7C3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07F-C622-4114-BBE0-1B3BFBB3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E1B5-11B7-4943-BF15-2633AC62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17A-72CE-46ED-ACA6-939ADB7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9D3-62B5-4AFE-86E1-11F528B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669-F858-4DF1-BEAC-49C8FE0A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91E-9803-47D3-8563-B9CC40B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307-1CE2-468D-9C6B-159F1F2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D65-4F11-4DD0-BADA-2C4F462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3E5-B9C9-4710-962B-350A695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E4B-1345-4E7F-B827-2E3BA0C33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DAF-8D75-4D9E-BD18-38B6E4C31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© Wendy Russell</dc:creator>
  <dc:description/>
  <dc:language>en-US</dc:language>
  <cp:lastModifiedBy>Wendy Russell</cp:lastModifiedBy>
  <dcterms:modified xsi:type="dcterms:W3CDTF">2007-08-24T18:19:07Z</dcterms:modified>
  <cp:revision>36</cp:revision>
  <dc:subject>Halloween Blank Story Template</dc:subject>
  <dc:title>PowerPoint Halloween Blank Story Template</dc:title>
</cp:coreProperties>
</file>